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50A5-3196-451C-9015-8D0FB2D3B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F57B-DD59-4669-8A18-A43E2FC89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DF32-45C4-43FD-B785-38072BC0D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4707-57DA-44C9-B2C9-33877947D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E5D7C-41FE-44BA-A164-28BA50D5D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35BF5-4E84-4476-BC98-D9089B919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1BE64-7BA2-452F-BFCD-785B8F24D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D7245-018A-47FC-BC1A-EF35DC617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A1A28-EA41-43DE-8C3F-5C024655E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F1FFF-6369-4F96-9110-9E1B83532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15517-B2B1-417D-BA75-817AC1BEF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E318-C777-4BDA-A1E3-DDE4778CE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2A8C1-8A2A-4F81-BD37-0E0688355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DF0DF-9CD7-43E2-878D-7526D1D63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9E644-E45C-429F-AD93-413E9349A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47109-936D-497B-B411-59D3A6622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A871D-7274-40CF-B804-7D41B3977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D9B2-5DC7-424B-8139-16CA1DD00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27F5-6685-4638-B81B-0B08849F7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99A9-9243-4087-BE17-A6D406BF9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F1DB-FDC3-4D21-9B56-FB2A8AD4D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CCA4-2CBD-490F-A2E8-A30BEABDD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9D5C-BA56-423B-8F93-F29DE3B87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0351-598B-4C5A-B4CB-FCE7819BF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C1D7D-9601-4622-95DA-68F44A477AB5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C596F-E91F-44BB-A3DB-0EC0B07CCE0D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ccff66"/>
              </a:buClr>
              <a:buFont typeface="Garamond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b9efee"/>
                </a:solidFill>
                <a:latin typeface="Garamond"/>
              </a:rPr>
              <a:t>RAAB form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Implications of errors in VA measurement on prevalence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81296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On average per cluster of 50 people fin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1 blind pers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3 people with severe visual impairment (SVI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What is the prevalence of blindness and SVI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  <a:ea typeface="Tahoma"/>
              </a:rPr>
              <a:t>Blind: 2%; SVI: 6%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Poor measurement of VI: for same cluster label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2 blind peopl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2 people with visual impairmen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What is the prevalence of blindness and SVI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  <a:ea typeface="Tahoma"/>
              </a:rPr>
              <a:t>Blind: 4%; SVI: 4%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" dur="5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1" dur="500"/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539640" y="44280"/>
            <a:ext cx="7993080" cy="481968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140360" y="44280"/>
            <a:ext cx="4392360" cy="1441800"/>
          </a:xfrm>
          <a:prstGeom prst="rect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24000" y="5013360"/>
            <a:ext cx="8640720" cy="17870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ns Examination on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all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ey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th torch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an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irect </a:t>
            </a:r>
            <a:r>
              <a:rPr b="0" lang="en-US" sz="2700" spc="-1" strike="noStrike">
                <a:solidFill>
                  <a:srgbClr val="ffffff"/>
                </a:solidFill>
                <a:latin typeface="Tahoma"/>
              </a:rPr>
              <a:t>ophthalmoscop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ahoma"/>
              </a:rPr>
              <a:t>disregarding visual statu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8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3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539640" y="44280"/>
            <a:ext cx="7993080" cy="481968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067280" y="1484280"/>
            <a:ext cx="4465440" cy="3384720"/>
          </a:xfrm>
          <a:prstGeom prst="rect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8360" y="5084640"/>
            <a:ext cx="8244000" cy="148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ause of presenting VA&lt;6/18 listed in both ey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Mark principal disorder: no examination if VA=6/18 or better in either eye: then code =14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0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5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179280" y="1084320"/>
            <a:ext cx="8785440" cy="52974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2484360" y="263700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419640" y="2637000"/>
            <a:ext cx="1425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484360" y="443700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308720" y="3860640"/>
            <a:ext cx="14292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308720" y="141300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419640" y="4869000"/>
            <a:ext cx="1425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8317080" y="1628640"/>
            <a:ext cx="14256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88000" y="342900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317080" y="3429000"/>
            <a:ext cx="1425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37400" y="136440"/>
            <a:ext cx="239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 Unicode MS"/>
              </a:rPr>
              <a:t>Example 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179280" y="1084320"/>
            <a:ext cx="8785440" cy="52974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2484360" y="299736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419640" y="2997360"/>
            <a:ext cx="1425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484360" y="479736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308720" y="342900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308720" y="1989000"/>
            <a:ext cx="14292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419640" y="4437000"/>
            <a:ext cx="1425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317080" y="1413000"/>
            <a:ext cx="1425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588000" y="407664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317080" y="3429000"/>
            <a:ext cx="1425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137400" y="136440"/>
            <a:ext cx="239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 Unicode MS"/>
              </a:rPr>
              <a:t>Example 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179280" y="1084320"/>
            <a:ext cx="8785440" cy="529740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484360" y="342900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421080" y="220500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484360" y="522936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308720" y="609300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308720" y="1628640"/>
            <a:ext cx="14292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443700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8317080" y="1989000"/>
            <a:ext cx="14256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588000" y="3860640"/>
            <a:ext cx="14292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317080" y="6093000"/>
            <a:ext cx="1425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137400" y="136440"/>
            <a:ext cx="239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 Unicode MS"/>
              </a:rPr>
              <a:t>Example 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179280" y="1084320"/>
            <a:ext cx="8785440" cy="529740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2484360" y="299736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421080" y="299736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486160" y="530064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308720" y="530064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308720" y="141300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21080" y="530064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8317080" y="1989000"/>
            <a:ext cx="14256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588000" y="530064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8317080" y="5300640"/>
            <a:ext cx="1425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137400" y="136440"/>
            <a:ext cx="239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 Unicode MS"/>
              </a:rPr>
              <a:t>Example 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179280" y="1084320"/>
            <a:ext cx="8785440" cy="529740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2484360" y="220500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421080" y="364500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484360" y="443700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308720" y="530064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308720" y="1989000"/>
            <a:ext cx="14292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21080" y="587700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8317080" y="1413000"/>
            <a:ext cx="1425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588000" y="609300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317080" y="6093000"/>
            <a:ext cx="1425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137400" y="136440"/>
            <a:ext cx="239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 Unicode MS"/>
              </a:rPr>
              <a:t>Example 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179280" y="1084320"/>
            <a:ext cx="8785440" cy="529740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2484360" y="299736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21080" y="299736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484360" y="486900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308720" y="407664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308720" y="1628640"/>
            <a:ext cx="14292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21080" y="530064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8317080" y="2205000"/>
            <a:ext cx="1425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88000" y="3860640"/>
            <a:ext cx="14292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317080" y="3860640"/>
            <a:ext cx="14256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137400" y="136440"/>
            <a:ext cx="239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 Unicode MS"/>
              </a:rPr>
              <a:t>Example 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Ophthalmic examination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6868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  <a:ea typeface="Tahoma"/>
              </a:rPr>
              <a:t>Refractive error: VA &lt;6/18 improving to 6/18 with pinhol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  <a:ea typeface="Tahoma"/>
              </a:rPr>
              <a:t>Cataract: VA &lt;6/18 not improving with pinhole and obvious lens opacit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  <a:ea typeface="Tahoma"/>
              </a:rPr>
              <a:t>Aphakia uncorrected: VA &lt;6/18 with aphakia, improving to at least 6/60 with pinhol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  <a:ea typeface="Tahoma"/>
              </a:rPr>
              <a:t>What to do if one eye has two causes of VI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  <a:ea typeface="Tahoma"/>
              </a:rPr>
              <a:t>What to do if two eyes have different causes of VI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  <a:ea typeface="Tahoma"/>
              </a:rPr>
              <a:t>Highest one on the list is major caus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General note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Ophthalmologist with assistant to measure all VA (not assistant on their own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Quality control of VA measuremen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Quality control of sampling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Usual rol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Ophthalmologist to fill in form and observ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Assistant holds the E char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Explanation by either ophthalmologist or assistan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Ophthalmologist checks all forms at end of da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Form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Fill in pencil with eraser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Fill in one form per person, even if not availabl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For each relevant section, fill in all the questions (no blanks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358920" y="66600"/>
            <a:ext cx="8316720" cy="454680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4211640" y="0"/>
            <a:ext cx="4464000" cy="4653000"/>
          </a:xfrm>
          <a:prstGeom prst="rect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50920" y="4941720"/>
            <a:ext cx="86407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Details about cataract operation for anyone with aphakia or pseudophakia in either ey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284720" y="3357720"/>
            <a:ext cx="4319640" cy="1223640"/>
          </a:xfrm>
          <a:prstGeom prst="rect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50920" y="6035760"/>
            <a:ext cx="8640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Refer to section C and D to determine caus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4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9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43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358920" y="66600"/>
            <a:ext cx="8316720" cy="454680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324000" y="1844640"/>
            <a:ext cx="3960720" cy="2736720"/>
          </a:xfrm>
          <a:prstGeom prst="rect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5300640"/>
            <a:ext cx="91440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Barriers to cataract surgery in one or both eyes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ask “Why cataract operation was not yet done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?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How does the form relate to the summary data obtained in RAAB?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108000" y="1825560"/>
          <a:ext cx="8964720" cy="4373640"/>
        </p:xfrm>
        <a:graphic>
          <a:graphicData uri="http://schemas.openxmlformats.org/drawingml/2006/table">
            <a:tbl>
              <a:tblPr/>
              <a:tblGrid>
                <a:gridCol w="1872000"/>
                <a:gridCol w="1512720"/>
                <a:gridCol w="1727280"/>
                <a:gridCol w="2016000"/>
                <a:gridCol w="1836720"/>
              </a:tblGrid>
              <a:tr h="52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Keny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Philippines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Banglades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Philippin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Blindnes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2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2.6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2.9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3.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Catarac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42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56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79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63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Avoidab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7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67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87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82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Cataract coverag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78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61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61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58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Poor outcome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22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23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2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13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Barrier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Awarenes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cos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Awarenes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cos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Awarenes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cos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Awarenes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cos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619280" y="566640"/>
            <a:ext cx="5761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General inform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324000" y="1557360"/>
            <a:ext cx="8569080" cy="20779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324000" y="4076640"/>
            <a:ext cx="8569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Square boxes: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one number in each bo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Line: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write tex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Small circle: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mark clearly with cross or ti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RAAB in one area: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write name of area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use area code 0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" dur="1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7" dur="1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2" dur="10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5" dur="1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34920" y="44280"/>
            <a:ext cx="4824360" cy="66978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2340000" y="4581360"/>
            <a:ext cx="3240000" cy="0"/>
          </a:xfrm>
          <a:prstGeom prst="line">
            <a:avLst/>
          </a:prstGeom>
          <a:ln w="63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580000" y="3933720"/>
            <a:ext cx="324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History if not examin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4076640"/>
            <a:ext cx="2340000" cy="1081080"/>
          </a:xfrm>
          <a:prstGeom prst="rect">
            <a:avLst/>
          </a:prstGeom>
          <a:noFill/>
          <a:ln w="63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042920" y="620640"/>
            <a:ext cx="3889440" cy="432000"/>
          </a:xfrm>
          <a:prstGeom prst="rect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932360" y="1052640"/>
            <a:ext cx="576360" cy="3313080"/>
          </a:xfrm>
          <a:prstGeom prst="line">
            <a:avLst/>
          </a:prstGeom>
          <a:ln w="63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340000" y="4581360"/>
            <a:ext cx="3240000" cy="0"/>
          </a:xfrm>
          <a:prstGeom prst="line">
            <a:avLst/>
          </a:prstGeom>
          <a:ln w="63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932360" y="1052640"/>
            <a:ext cx="576360" cy="3313080"/>
          </a:xfrm>
          <a:prstGeom prst="line">
            <a:avLst/>
          </a:prstGeom>
          <a:ln w="63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4076640"/>
            <a:ext cx="2340000" cy="1081080"/>
          </a:xfrm>
          <a:prstGeom prst="rect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340000" y="4581360"/>
            <a:ext cx="3240000" cy="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932360" y="1052640"/>
            <a:ext cx="576360" cy="331308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9efee"/>
                </a:solidFill>
                <a:latin typeface="Garamond"/>
              </a:rPr>
              <a:t>How would you persuade someone who refused to be examined?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179280" y="1052640"/>
            <a:ext cx="3611520" cy="48956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108000" y="981000"/>
            <a:ext cx="3743280" cy="5040360"/>
          </a:xfrm>
          <a:prstGeom prst="rect">
            <a:avLst/>
          </a:prstGeom>
          <a:noFill/>
          <a:ln w="63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4360" y="879480"/>
            <a:ext cx="5219640" cy="634140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ey point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Mark use of specta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Measure presenting vis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Measure VA in both eyes: first right eye then left ey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4 out of 5 readings correc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Start at 6/60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Use pinhole if PVA&lt;6/18, starting at last vision se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Accurate measurement of VA is </a:t>
            </a:r>
            <a:r>
              <a:rPr b="1" lang="en-US" sz="5400" spc="-1" strike="noStrike" u="sng">
                <a:solidFill>
                  <a:srgbClr val="b9efee"/>
                </a:solidFill>
                <a:uFillTx/>
                <a:latin typeface="Garamond"/>
              </a:rPr>
              <a:t>crucial!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Visual acuity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  <a:ea typeface="Tahoma"/>
              </a:rPr>
              <a:t>Check conditions for VA measurem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  <a:ea typeface="Tahoma"/>
              </a:rPr>
              <a:t>Person in shad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  <a:ea typeface="Tahoma"/>
              </a:rPr>
              <a:t>E in light, but not in glar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  <a:ea typeface="Tahoma"/>
              </a:rPr>
              <a:t>Properly explained (particularly pinhole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  <a:ea typeface="Tahoma"/>
              </a:rPr>
              <a:t>Don’t go too fas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  <a:ea typeface="Tahoma"/>
              </a:rPr>
              <a:t>Person not squinting or peepin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  <a:ea typeface="Tahoma"/>
              </a:rPr>
              <a:t>Do not rotate but tumble E char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  <a:ea typeface="Tahoma"/>
              </a:rPr>
              <a:t>If they get it wrong – move on!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  <a:ea typeface="Tahoma"/>
              </a:rPr>
              <a:t>Pinhol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  <a:ea typeface="Tahoma"/>
              </a:rPr>
              <a:t>Always pinhole test if PVA&lt; 6/18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  <a:ea typeface="Tahoma"/>
              </a:rPr>
              <a:t>Go to large optotype firs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  <a:ea typeface="Tahoma"/>
              </a:rPr>
              <a:t>Usually at least as good as presenting – often bette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b9efee"/>
                </a:solidFill>
                <a:latin typeface="Garamond"/>
              </a:rPr>
              <a:t>Problem spotting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  <a:ea typeface="Tahoma"/>
              </a:rPr>
              <a:t>What to do if 3 out of readings are 5 correct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  <a:ea typeface="Tahoma"/>
              </a:rPr>
              <a:t>Can pinhole vision be worse than presenting VA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  <a:ea typeface="Tahoma"/>
              </a:rPr>
              <a:t>What if not wearing glasses, but have glasses in the house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5T02:26:06Z</dcterms:created>
  <dc:creator> </dc:creator>
  <dc:description/>
  <dc:language>en-US</dc:language>
  <cp:lastModifiedBy>Hans Limburg</cp:lastModifiedBy>
  <dcterms:modified xsi:type="dcterms:W3CDTF">2013-03-28T14:38:28Z</dcterms:modified>
  <cp:revision>51</cp:revision>
  <dc:subject/>
  <dc:title>Slide 1</dc:title>
</cp:coreProperties>
</file>